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5C243C-96E9-449C-B050-E0B37ABECD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D89480-0BD2-4395-B130-5E2F23A61E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ecção "Descrição geral das provas do estudo de caso" apresenta, de forma condensada, as provas que serão apresentadas aos deleg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FC9D59-1250-4524-BD0F-F2736E005A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10 e-mails considerados regulares trocados entre os responsáveis do FBA e da UBP encarregados de diferentes secções de atividade e contratos para a impressão de bónus de aniversár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O contrato entre o FBA e o UBP ocorre após a troca de e-mails e é perspetivado em termos da estrutura comercial da transação. Também define etapas cruciais para o posterior desenvolvimento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DD5CD7-F9E3-4628-AC0F-BBC014DAA3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Os extratos bancários acompanham de perto o desenvolvimento do caso. Os delegados poderão implementar o princípio “seguir o dinheiro”, analisando os extratos bancários do FBA e do UB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A fatura pró-forma é genuína e emitida pelo UBP para o FBA referente a um adiantamento no valor de 100.00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95BBF3-A296-47B2-A204-56CFC15A75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Dois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3A49EB-949E-492A-9C0B-0341CEDDC8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E1D969-79E3-4DDF-9AB5-D52BC27C51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11.º e-mail os seguintes são ferramentas de perpetração. O conteúdo dos e-mails é escrito pelo autor do crime e inclui os elementos necessários para análi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atura falsa é elaborada pelo autor do crime e direciona a transferência do dinheiro para a conta bancária real existente, mas aberta com finalidade fraudulen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D358A0-0834-417A-A744-1EAFECCE29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Depoimentos dos funcionários do Federal Bank of Atlantis envolvidos no caso em fases diferentes. Os depoimentos mais importantes são os do Departamento Financeiro e de TI, pois dão pistas ou explicações sobre a forma como o crime foi, de facto, cometi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870D52-E1B1-411D-9678-DF058AA6EA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Três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73D6A4-2A8F-46BB-A219-20D248722F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nvestigação deve começar em grupos de trabalho com líderes de grupo e membros a começarem a trabalhar no caso a partir da base fornecida no Material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274EA5-2820-4071-8C34-556FB65514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nvestigação deve começar em grupos de trabalho com líderes de grupo e membros a começarem a trabalhar no caso a partir da base fornecida no Material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F91A65-D645-4ABF-81B7-AD6BD6762B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Um da apresentação fará a introdução à prova inicial fornecida no material do cenário de cas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Dois apresentará o layout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Três será a perpetração do ato criminos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Quatro irá estabelecer as bases para o início da investigação e trabalho dos forman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Cinco é um resumo dos apresentados anteriormen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B802FE-FF1C-407A-B1B7-706B067565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nvestigação deve começar em grupos de trabalho com líderes de grupo e membros a começarem a trabalhar no caso a partir da base fornecida no Material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C9893F-9B53-4678-8601-AABC57B8E6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Quatro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50410C-CA78-4753-B574-078C141B59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8E352C-2D05-4A7C-BF66-A20C0CCF2F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402A77-156C-4069-ADEE-2AA991E923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BA5C3E-A05B-4FA4-B9F9-7EA9A7299A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O cenário começa com o estabelecimento do Federal Bank of Atlantis (FBA), banco internacional bem conhecido, bem estabelecido e respeitado. Uma descrição como esta deve levar os formandos a concluir que este tipo de banco não deve estar envolvido em nenhum tipo de problema, muito menos aqueles semelhantes a um que será descrito mais tarde neste documento.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61A1BF-E463-456F-9960-AA8E70C134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il da empresa de empresas envolvidas no cenário do caso. São produzidos 3 ficheiros diferentes do MS Word no formato 97-2003 no material. Devem estar à disposição dos delegados em cópia impressa ou, se as circunstâncias permitirem, e todos os delegados tiverem acesso único aos computadores, em formato eletrónic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013E42-6E24-4265-AC91-5C49D0CC27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Diversos documentos de apoio para o cenário do caso. São produzidos 3 ficheiros diferentes do MS Word no formato 97-2003 e Adobe Reader no material. Devem estar à disposição dos delegados em cópia impressa ou, se as circunstâncias permitirem, e todos os delegados tiverem acesso único aos computadores, em formato eletrónic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79CCA7-0F85-48D5-A2C0-49B5E930E4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Um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83A234-87BF-40CE-86CF-6E2AF37C86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A961-63B8-4A85-A5DB-F7A74D493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B213-488B-4A1C-B622-E6416502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A10C-F20A-4387-96EF-7F35C77DC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6135-56DC-43CA-90F4-AC460BA25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6486-D7EE-4E0D-B7E6-C88BE969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4C99-50DB-4FD5-83C5-183A2966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0E85-0198-4654-98D3-1B977DE2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A028-B1B6-43B4-9ED1-D74D55F8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7314-DB9C-40EB-B9A4-C356C0C0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A03D-BB5F-49D6-B75E-A8CD6A1A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E1BD-50DF-4E44-AB94-72696E4A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0C2A-08BF-4586-BD89-1AF97EF3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F90C88-9CAE-45BF-BF5C-CB7C8F06FD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465973-F9D1-47D7-B05B-B2D2D17056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5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mação Avançada sobre Cibercrime para Juízes e Procurado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Sessão 2.2.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Descrição geral das provas do caso de estu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136160"/>
            <a:ext cx="8229600" cy="50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Pasta 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pt-PT" sz="3200" spc="-1" strike="noStrike">
                <a:solidFill>
                  <a:srgbClr val="000000"/>
                </a:solidFill>
                <a:latin typeface="Calibri"/>
              </a:rPr>
              <a:t>E-mails"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Troca de e-mail entre o FBA e a U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e-mails fornecidos após o desenvolvimento da troca entre pessoas contratadas e responsáveis do FBA e da UBP para a emissão do bónus de aniversári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Pasta "</a:t>
            </a:r>
            <a:r>
              <a:rPr b="0" i="1" lang="pt-PT" sz="3200" spc="-1" strike="noStrike">
                <a:solidFill>
                  <a:srgbClr val="000000"/>
                </a:solidFill>
                <a:latin typeface="Calibri"/>
              </a:rPr>
              <a:t>Documentos e relatórios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O contrato entre o FBA e a UBP é fornecido para uma melhor análise, mas também como prova de apoio ao proces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senvolvimento do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94A9B7F9-BB42-4650-A578-E340B7B7A8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50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Pasta "</a:t>
            </a:r>
            <a:r>
              <a:rPr b="0" i="1" lang="pt-PT" sz="2400" spc="-1" strike="noStrike">
                <a:solidFill>
                  <a:srgbClr val="000000"/>
                </a:solidFill>
                <a:latin typeface="Calibri"/>
              </a:rPr>
              <a:t>Extratos bancários</a:t>
            </a: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Extrato bancário do FB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numerosas transações enumeradas, incluindo pagamento antecipado de 100.000 EUR indicado neste extrat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Extrato bancário da U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O Docklands Securities Bank of Norland efetua as transações bancárias da United Bank Printing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Fatura pró-forma da U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A fatura pró-forma foi emitida pela UBP ao FBA no valor de 100.000 EU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senvolvimento do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88ADB8BE-3B43-48E8-BDBF-1BC050540E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0C040BB1-447B-43D0-BE19-C1BA4BDB4D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Calibri"/>
              </a:rPr>
              <a:t>Parte Três:</a:t>
            </a:r>
            <a:br>
              <a:rPr sz="4000"/>
            </a:br>
            <a:r>
              <a:rPr b="1" lang="pt-PT" sz="4000" spc="-1" strike="noStrike">
                <a:solidFill>
                  <a:srgbClr val="000000"/>
                </a:solidFill>
                <a:latin typeface="Calibri"/>
              </a:rPr>
              <a:t>Perpetração do crime </a:t>
            </a:r>
            <a:r>
              <a:rPr b="1" lang="pt-PT" sz="4000" spc="-1" strike="noStrike">
                <a:solidFill>
                  <a:srgbClr val="000000"/>
                </a:solidFill>
                <a:latin typeface="Calibri"/>
              </a:rPr>
              <a:t>- Provas e depoimentos de testemunh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8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53BC06F8-0026-45DF-A683-81F3082B96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Pasta "E-mails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11.º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e-mail e troca seguinte como momento-chave para a perpetração do crim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Pasta "Extratos bancários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- A fatura falsa da UBP inclui informações sobre a conta fraudulenta e um pedido de pagamento de 200.000 EUR pela finalização da impressão de 20.000 bónu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F98D5659-9B3B-47CA-9F8B-A29CDC4D11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Pasta "Depoimentos de testemunhas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Depoimento do Departamento de Logística e Operações do FB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Depoimento do Departamento Financeiro do FB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Depoimento do Departamento de Tecnologia da Informação do F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F09A412A-5EF9-4F3B-AAC8-7799567402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B2F4F492-88AF-4628-A876-1F13D99586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rte Quatro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lossá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98" name="Čuvar mesta za broj slajd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AE4AEE31-05CF-4018-971C-2459287063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sá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Ameaça persistente avança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"conjunto de processos furtivos e contínuos efetuados por de hackers informáticos, frequentemente orquestrados por uma pessoa ou por várias pessoas que visam atingir uma entidade específica"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1ECA6235-8E8E-41B2-BBB8-938891BFEC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C:\Users\B.Stam\Desktop\b-apt_infographic.jpg"/>
          <p:cNvPicPr/>
          <p:nvPr/>
        </p:nvPicPr>
        <p:blipFill>
          <a:blip r:embed="rId1"/>
          <a:stretch/>
        </p:blipFill>
        <p:spPr>
          <a:xfrm>
            <a:off x="2406600" y="3452760"/>
            <a:ext cx="427212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sá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Criptomoe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"ativo digital concebido para funcionar como meio de troca utilizando a encriptação para proteger as transações e para controlar a criação de unidades adicionais da moeda"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300D81F5-BC1D-4D71-9CA0-A59F5DEB8B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C:\Users\B.Stam\Desktop\alt-cryptocurrencies.jpg"/>
          <p:cNvPicPr/>
          <p:nvPr/>
        </p:nvPicPr>
        <p:blipFill>
          <a:blip r:embed="rId1"/>
          <a:stretch/>
        </p:blipFill>
        <p:spPr>
          <a:xfrm>
            <a:off x="2001960" y="3830760"/>
            <a:ext cx="535752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73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236600"/>
            <a:ext cx="851364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Um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Introdução e provas inicia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Dois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Desenvolvimento do cas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Três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Perpetração do crime e depoimentos de testemunh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Quatr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Glossári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arte Cinc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sum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62E3A6F9-B851-490C-9E6B-5CA2D24B5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sá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41084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Engenharia social ciberné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"tipo de logro para fins de recolha de informações, fraude ou acesso a sistemas; difere de um "golpe " tradicional, pois, muitas vezes, é um dos muitos passos de um esquema de fraude mais complex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B6323789-6850-4FB3-993F-C5AD090743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Users\B.Stam\Desktop\Social Engineering, Baiting, Phishing, Email Hacking, Contact Spamming, Pretexting, Spear Phishing,Vishing, Hunting, Farming NORTON_0.jpg"/>
          <p:cNvPicPr/>
          <p:nvPr/>
        </p:nvPicPr>
        <p:blipFill>
          <a:blip r:embed="rId1"/>
          <a:stretch/>
        </p:blipFill>
        <p:spPr>
          <a:xfrm>
            <a:off x="5076720" y="3814920"/>
            <a:ext cx="361008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89471B8E-4845-4538-BACC-834587CAA4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6840" y="1353960"/>
            <a:ext cx="851220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No final desta sessão, os delegados serão capazes d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- Compreender a introdução e as provas iniciais do caso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- Compreender o desenvolvimento do caso, analisando as provas eletrónicas e reais apresentadas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- Acompanhar a perpetração efetiva e encontrar factos adicionais nos depoimentos das testemunhas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- Encontrar informações adicionais sobre os principais termos e definições das ferramentas do mundo cibernético e do crime e utilizá-los neste cas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tivos da sess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2C0C8BFA-8D6B-4E1B-B69E-F09EF2825F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549C389B-7879-46CC-B0CD-8370F6E5C5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1558800"/>
            <a:ext cx="851220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No final desta sessão, os </a:t>
            </a: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formandos serão </a:t>
            </a: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capazes 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Compreender a introdução e as provas iniciais do cas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Compreender o desenvolvimento do caso, analisando as provas eletrónicas e reais apresentada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Acompanhar a perpetração efetiva e encontrar factos adicionais nos depoimentos das testemunha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Encontrar informações adicionais sobre os principais termos e definições das ferramentas do mundo cibernético e do crime e utilizá-los neste cas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tivos da sess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7F810AE8-C2CD-4013-AC04-D8E890DA34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rte Um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ção e provas inicia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5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4AB91017-9821-4A50-8FEA-A0D8A722F2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149480"/>
            <a:ext cx="822960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Pasta "</a:t>
            </a:r>
            <a:r>
              <a:rPr b="0" i="1" lang="pt-PT" sz="3200" spc="-1" strike="noStrike">
                <a:solidFill>
                  <a:srgbClr val="000000"/>
                </a:solidFill>
                <a:latin typeface="Calibri"/>
              </a:rPr>
              <a:t>Introdução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Sinopse do ca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 cenário do estudo de caso refere-se a esquemas recentes de comprometimento de e-mails empresariais ou "BEC" (do inglês, Business E-Mail Compromise), que derivam de fraudes como "fraude de CEO" ou "ataques indiretos/por intermediários" (</a:t>
            </a: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man-in-the-middle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) anteriormente detetad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 objetivo e a dimensão destas fraudes são surpreendentes.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1B34D0A2-03A7-42EE-B056-A00E6179F9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Pasta "Perfis empresariais"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Perfil empresarial do Federal Bank of Atlan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Descrição geral, organização e funcioná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Perfil empresarial da United Bank Prin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Descrição geral, organização e funcioná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Perfil empresarial do Doklands Securities Bank of Nor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Descrição geral, organ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ização e funcionár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vas inicia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5DBD780E-DD89-4613-A1A4-57CF157598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186920"/>
            <a:ext cx="8229600" cy="516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Pasta "</a:t>
            </a: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Documentos e relatórios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Anúncio do bónus de aniversário por parte do F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Decisão do Conselho de Administração sobre a emissão do bónus e respetivos elementos financeiro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Bónus do F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preparação provisória do bónus, incluindo os elementos para impressã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Contrato entre o FBA e a UB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contrato celebrado para o serviço de impressão de 20.000 elementos do bónus de aniversário do FB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vas inicia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CB87456E-9853-4131-8338-A41BF8AD3B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D1CE2F8B-E1B8-4F3B-A51D-1972701AB3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rte Dois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esenvolvimento do cas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74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34AC0010-7B14-43D9-9F83-78031FE70E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09:33:22Z</dcterms:created>
  <dc:creator>Nigel Jones</dc:creator>
  <dc:description/>
  <dc:language>en-US</dc:language>
  <cp:lastModifiedBy>Pedro Verdelho</cp:lastModifiedBy>
  <dcterms:modified xsi:type="dcterms:W3CDTF">2019-04-22T13:49:18Z</dcterms:modified>
  <cp:revision>184</cp:revision>
  <dc:subject/>
  <dc:title>Introductory Cybercrime Training for Judges and Prosecutors</dc:title>
</cp:coreProperties>
</file>